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B8F-DFAA-4BC0-BCB2-E8657C5D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185-F0E1-4728-B39D-5C57E1F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E92-1CA9-4244-8DCC-B80541BB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F8D-8F4C-43E7-ADCB-F930EE4C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45C-0CE6-45D4-BB95-7E21240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217-C26F-4F8E-85F9-E78AE9D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166-DDF0-4754-8ACB-8605274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899-6B49-4EE7-9886-BE9F93A6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5C7-F453-4BB1-8A46-0EFA2C6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CCB-6CC6-4B4A-BF94-D30BC5E7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92B-2E1E-4060-8456-C4B8944F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365-0051-4D92-9D9B-3937A22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2166-ABB6-4454-995A-2E3FF5A40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Les animaux de la ferme (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3" descr=""/>
          <p:cNvPicPr/>
          <p:nvPr/>
        </p:nvPicPr>
        <p:blipFill>
          <a:blip r:embed="rId2"/>
          <a:srcRect l="0" t="0" r="-504" b="0"/>
          <a:stretch/>
        </p:blipFill>
        <p:spPr>
          <a:xfrm>
            <a:off x="490680" y="1916280"/>
            <a:ext cx="8474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chons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rcRect l="5439" t="8640" r="23314" b="6393"/>
          <a:stretch/>
        </p:blipFill>
        <p:spPr>
          <a:xfrm>
            <a:off x="515880" y="692280"/>
            <a:ext cx="77281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Boeuf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rcRect l="10976" t="12604" r="28603" b="14890"/>
          <a:stretch/>
        </p:blipFill>
        <p:spPr>
          <a:xfrm>
            <a:off x="762120" y="692280"/>
            <a:ext cx="76262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1"/>
          <a:srcRect l="8712" t="12225" r="26084" b="12058"/>
          <a:stretch/>
        </p:blipFill>
        <p:spPr>
          <a:xfrm>
            <a:off x="684360" y="727200"/>
            <a:ext cx="776916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Veau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rcRect l="15636" t="5618" r="16895" b="13381"/>
          <a:stretch/>
        </p:blipFill>
        <p:spPr>
          <a:xfrm>
            <a:off x="838080" y="692280"/>
            <a:ext cx="74678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rcRect l="8712" t="7695" r="19286" b="9604"/>
          <a:stretch/>
        </p:blipFill>
        <p:spPr>
          <a:xfrm>
            <a:off x="1116000" y="843120"/>
            <a:ext cx="73263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Vach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13495" t="1084" r="18657" b="22068"/>
          <a:stretch/>
        </p:blipFill>
        <p:spPr>
          <a:xfrm>
            <a:off x="839880" y="700200"/>
            <a:ext cx="73324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Moutons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Dind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"/>
          <p:cNvPicPr/>
          <p:nvPr/>
        </p:nvPicPr>
        <p:blipFill>
          <a:blip r:embed="rId1"/>
          <a:stretch/>
        </p:blipFill>
        <p:spPr>
          <a:xfrm>
            <a:off x="1019160" y="1052640"/>
            <a:ext cx="71532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Agneau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755640" y="800280"/>
            <a:ext cx="6840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O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1187280" y="828720"/>
            <a:ext cx="6913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chon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16390" t="8640" r="18027" b="10736"/>
          <a:stretch/>
        </p:blipFill>
        <p:spPr>
          <a:xfrm>
            <a:off x="971640" y="819000"/>
            <a:ext cx="720072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anard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rcRect l="15382" t="9959" r="21803" b="16212"/>
          <a:stretch/>
        </p:blipFill>
        <p:spPr>
          <a:xfrm>
            <a:off x="900000" y="785880"/>
            <a:ext cx="720108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chon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rcRect l="6951" t="11095" r="23691" b="6204"/>
          <a:stretch/>
        </p:blipFill>
        <p:spPr>
          <a:xfrm>
            <a:off x="784080" y="652320"/>
            <a:ext cx="73882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(Canard)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rcRect l="11637" t="14507" r="25298" b="11855"/>
          <a:stretch/>
        </p:blipFill>
        <p:spPr>
          <a:xfrm>
            <a:off x="655560" y="692280"/>
            <a:ext cx="767232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1:42:28Z</dcterms:modified>
  <cp:revision>8</cp:revision>
  <dc:subject/>
  <dc:title>PowerPoint Presentation</dc:title>
</cp:coreProperties>
</file>